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E47-DC43-45CF-92F7-960360CE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A99-FDA4-4B9D-B36C-A31F4C13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39EA-DF3A-40D2-8B57-58A7DBC2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262-EC68-462C-A1A3-5E6C88C2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5B26-1148-4496-9D51-8A282B76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025B-496B-4076-989B-1E197EF8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E0DD-1256-4A4E-9758-CEBB0EA6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E655-DEB6-4D2D-9AA2-4A464C4F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9FE6-2EA6-4DAD-A927-3AD8B4EC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3104-1F6F-485F-9ED5-DDC60108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5F02-9D1E-415E-8954-F734FFB1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DA0-B9EC-43EB-8C51-C1F61037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1D55-3535-4CD1-86BB-FA3656EB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36C3-31E4-4470-84FB-5718E024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68A8-434F-4E1C-91E5-8560815F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1E69-A534-4071-B2E2-7490813C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AB68-ABDF-4484-8AF7-D7A70D83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437-BFAF-4624-B9D5-4E8193EA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9B5-B34C-48D3-A49D-7760B566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DE5-D66F-4474-B592-208CF01F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686-F7B6-4D03-80D6-F420194F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685-7D5F-456F-8C64-EFFEE734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592-FB03-4AB2-8ACD-3624D092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8E2-D8EB-4FAD-AA37-BF72DB2F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1892-AA24-4D1E-8B58-EA13D0E9C0F1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E379-4D34-44BF-881D-0410ED03C9C3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9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</a:t>
            </a:r>
            <a:r>
              <a:rPr b="0" lang="en-US" sz="4400" spc="-1" strike="noStrike">
                <a:solidFill>
                  <a:srgbClr val="ffffcc"/>
                </a:solidFill>
                <a:latin typeface="Haettenschweiler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Haettenschweiler"/>
              </a:rPr>
              <a:t>Magen McQua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Haettenschweiler"/>
              </a:rPr>
              <a:t>Sophomo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876560" cy="38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Lighting (Digital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200400" cy="4800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4267440" cy="2853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429912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Extra Credit photos - Cemetery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575160" cy="2335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477120" y="2286000"/>
            <a:ext cx="2514600" cy="369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52280" y="2209680"/>
            <a:ext cx="2467080" cy="3743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666880" y="5715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Taken At Mt. Pleasant Cemete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Extra Credit Photos - Angl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419720" cy="3416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920" y="45720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Worm’s Ey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4267440" cy="3193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181480" y="2971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Bird’s Ey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Photogram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4972320" cy="4019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791320" y="1828800"/>
            <a:ext cx="31240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Wingdings"/>
                <a:ea typeface="Wingdings"/>
              </a:rPr>
              <a:t>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Haettenschweiler"/>
              </a:rPr>
              <a:t>Things That Define Me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My Hello Kitty Stick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My Earring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My Swirly Paper Clip(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My Charm Bracel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My Bus Car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My Pirate Key Cha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Painting With Ligh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2822760" cy="3429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19320" y="49528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Outlini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372200" cy="3322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19720" y="25909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Ghosting (This is Roby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Partner Project - Tawni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4130640" cy="5867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800600" y="26668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This was my favorite picture of her that I chose to turn into a 5x7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Partner Project – Tawnie (Cont’d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038480" cy="3032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4724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Haettenschweiler"/>
              </a:rPr>
              <a:t>Prop:</a:t>
            </a: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 Kandi (The bracelet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3200400"/>
            <a:ext cx="4343400" cy="3346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4120" y="2590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Haettenschweiler"/>
              </a:rPr>
              <a:t>Word:</a:t>
            </a: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 Solem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Self Portrait(s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409920" cy="4800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4419720" cy="3772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62120" y="57150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This is Tawni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2133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This is Sarah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Free Choice – Hand Colo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605040" cy="457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267080" y="2209680"/>
            <a:ext cx="449604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Macro (Digital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4114800" cy="2749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04920" y="1143000"/>
            <a:ext cx="40384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Water Drops (Digital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172040" cy="2791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190760" cy="2801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181480" y="31240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Patter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Colo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8:28Z</dcterms:created>
  <dc:creator>bal_mlmcquade</dc:creator>
  <dc:description/>
  <dc:language>en-US</dc:language>
  <cp:lastModifiedBy>bal_mlmcquade</cp:lastModifiedBy>
  <dcterms:modified xsi:type="dcterms:W3CDTF">2009-05-22T15:29:21Z</dcterms:modified>
  <cp:revision>15</cp:revision>
  <dc:subject/>
  <dc:title>Magen McQuade</dc:title>
</cp:coreProperties>
</file>